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A9F-F038-4772-B7C5-595C8DE8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577-372C-462E-AD7F-9D671CF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E131A-16AF-4D1B-A46A-1BF3FB75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D9E4B-F2CD-4604-B737-454C68E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4724B-3B34-4B02-A60E-68E8424D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3FAC5-88E0-4F97-8AE6-5F444C43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51B70-32B0-4815-A330-09A53A23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7528F-046E-43FE-94C3-B1846A1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162D7-B174-4944-8162-1DCB86BE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9262-55A9-4FFF-AD3B-2217C47E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64641-DEE2-4557-9A97-A7F739AB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D3BD0-E8F0-4E3D-AF5C-79ED63F1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40E-5FC9-4E73-9D0B-9D28724E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A15DA-BBF5-4AE8-B232-E987B951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D8115-CBEB-45C2-8C33-6E985019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4BE64-FBFB-4A7F-AA6E-E7DB6EB6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A331A-F3A5-48E2-976C-78D43182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2E9AB-14BE-4613-841D-96494300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E5A9-E9A5-4F53-80F8-5DFE4C28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D51ED-9F14-4FDD-8D28-3E5AC6E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06D5-E5EC-4EC3-858B-3E44FEE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4CDD7-7F99-4343-B37D-8D2D89A6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FE4BC-BA86-4811-B7C8-663127A7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107-DA57-4852-B3B5-D087ECF6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7B3C6-E244-4A27-8E57-B63384B4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44016-546E-495A-89D4-8065C701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09E43-84F8-471C-90AA-819BC26B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C717B-3F7D-406C-8984-16F5C7F9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7A9DF-5B7C-4915-A3A7-231DB390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E6063-66B1-4FD1-AAB1-5625F68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301B5-D9E1-429C-A604-74AF923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138DA-113A-47E1-A3BC-402C595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8EF89-D76C-4476-AB60-ECE1B88D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FC971-0C82-4A05-82B8-E9D3D2D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80A7-C8FA-46AE-BB29-F92E8F78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DFDF0-E5E7-42F9-8107-15A7F518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CF341-1F70-47D9-9ED9-C6062F59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96371-453C-48D8-B700-02027297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3290D-56BD-4C0B-84A8-1EBB76A6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711AF-805F-4D54-A231-BD4B64A0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81482-600F-4826-8C7D-90C2CADD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4EE65-9A24-4E7A-B469-F6A73A1B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46ABA-D879-4939-9574-0A2E1EBA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C2DA2-4D22-4FE6-BEB7-3DA90CB2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76446-128D-47FE-816A-E945429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B61B-E5F7-448E-9669-AAD726CC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F8008-0EAA-4E4A-8195-80D85A4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EDB2E-C2DE-43D7-ACC2-8B92C16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D1E0B-1D07-4B9C-94E2-6CE668F5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0DA16-28C0-4DD2-AF0F-04D0AB87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4E455-8464-4216-A8DA-7CD778A4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064BB-5B98-4EFD-B1E8-D6A756EE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67CC4-945B-458E-BEA5-80D031CF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E64B9-1C45-46C9-B69A-D1DBBAE7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3F388-DC6D-4541-A8E6-30B2E72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FBEB9-9A0F-4C9C-B76D-68336977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F27A-995D-4448-A481-B8D12208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4F192-B85B-488F-96CA-7696995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EE7C1-1AFD-48EF-AB48-05AB1EB8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68A72-6461-4E8C-89A2-857C701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77638-0CCD-4F00-92AE-D35CEDE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E4EAA-5C31-4CE8-9E3B-F03FF7A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9254D-C08A-4C61-ABE9-D114BCC6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D0580-C661-4301-8231-727D75B1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811D4-F27B-4559-BB37-A0940723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46DFF-C390-4030-9A1A-1463777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6E339-ED84-4931-8CDA-DC13B55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E34D-8AC2-4F3B-8DD6-2DD8354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2F065-9CE9-4363-93E4-62086464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208FC-4E67-49E1-91AA-18E962E9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C14AE-64F5-4994-9582-54A6995F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C7D4E-200F-4FF8-B188-713C77A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6EBA3-6C71-43A2-8E1F-7F880FB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244F5-A667-482C-B635-59884D3F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C21E7-24C2-4C19-943F-C04080CC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AB240-4756-40B2-B4EC-94CE3450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A32C9-0168-4956-83E8-2DDDA67A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CEAD3-CA8B-4BF0-9874-52E47591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463B-8F0E-4634-8E84-EF065962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B1891-3628-4974-B9EA-2A8F8973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3738F-3B11-4224-BD7C-2BA53247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DCB0C-34F8-444E-83A6-E966D3CC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F3DAA-7851-43E1-AD55-CB743011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04671-E641-43C3-986B-DA431F9D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306D5-37B2-4E80-9886-63EC8A8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8CC74-8F46-4DE6-AF5E-5624F43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CE5B7-36DC-49D2-9EF3-4DF7508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D59E0-A7BF-44D5-A8AF-B6FBE30A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77C02-1213-48AC-B3BC-450B62BD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C612-9AFA-4182-9385-D0F37A70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5EF95-FC5D-4B76-9B4E-C9C7A073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13861-3DDF-470E-A8D4-8CC2C5D1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2BE58-8726-4DA4-956E-43F8D78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68C73-3B2A-4CAB-8077-AA07D28F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86E05-69DE-4E6D-850D-AF9B7230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4B80B-3341-403A-9BF2-0E1ADB3A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AA4C7-D65D-406D-A883-6D65429C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36138-29E6-4FB1-9665-D052C57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FD9EB-84A1-43A0-B460-031D00BD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41FAC3-6429-4379-8A91-FC3BA29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985E-EF35-4166-A140-BA705D0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1F2E1-59DA-4A17-AE7E-FD36D5E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D4E1D-CFEB-4CBE-9993-F181AC5F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1F1EB-DFEE-4E8A-9A6E-8166BBAE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C8F8C-D529-4095-8477-4F798CE7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A941A-AF14-4C37-A560-E0488373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AF73E-E2AB-487E-98FB-ED7AA975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39536-1FDF-457B-BAA2-FE2A2C54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5D684-C163-42B3-A2F1-DA0AAA71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FA409-9CE4-4CA8-BCCE-CA3A075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73062-6055-41D7-9736-EECD1B0C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170-5D81-4598-A8C4-815622C6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3D3F-B78D-4F23-AEB4-C25A6972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8084A-60BA-4C17-B2CD-7C2847C7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3D155-1E76-47E4-A631-86BCFD00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FE935-7FE2-45BD-B333-02E37AE9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8F842-7155-4E9E-8C41-7E700112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55026-FCA4-4505-9327-C71F9A33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5F07E-5EBB-452D-BFC3-C4B84E65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1A3EE-515A-454D-ABF6-8726BB7C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DB753-04DF-44E4-BDA7-B3445663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41783-5838-43DA-8743-973E8509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EB771-C654-4517-A698-0121BB1C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5D9C-5ED6-4976-A3E8-21EAC4D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57618-4115-40A4-9C96-19EF2FDC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BD5B5-B6B8-4AFA-82B9-7BFD058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1347B-9724-4407-BB44-97533173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3280E-1F49-4CCE-9124-C91BE6D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D050F-0B38-4BCE-997B-95D169F8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B00AE-4305-4707-A743-6F49038F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1F5E1-43C0-491E-B360-CB2ABC97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99DA1-1C9E-45C7-84CD-86416726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42EE5-EEA5-43DE-A68F-285C45C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44FA0-F49B-4405-9DE5-C8EE990E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C22B-023F-4D8D-BB61-47AB3B1D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D3152-9C36-44A5-81D3-9F5249EE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9D619E-305E-4EBF-8B3D-AEDEFD97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A311C-C639-45BF-A75B-6A0E12AB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00587-4CB9-4184-B8C2-3E3E1F9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40CB9-9E33-4214-A57A-20430DAC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AD030-AD20-4B36-A5BA-EE7A242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6FB6B-C73A-430E-A181-822B923C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547D2-FB07-4CC4-A7B9-4E7884AB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C0D34-E2A6-4A76-AEFD-F0E01E6A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FC51C-94D0-4CA7-9826-1F256092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A84-F495-4AA9-AA53-65E9270E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5C8A4-8251-4B72-90E1-EEF0200E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E36A9-B4C8-46DE-9F72-BE375FB9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39107-EFC7-4E6E-AE52-05C7649E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DF50C-DEF6-4A84-BF4B-3C2C70C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C68AE5-B53F-4682-B6D2-AB6C26B3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09442-0B14-497A-8DB3-18F8314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74B64-A747-490E-8A1A-07D7894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B7F8EA-5CB8-49BA-A0F9-8D488B4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CD587C-4859-4307-AF61-47BB2C02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15677F-6D4C-400A-8D63-AF96009C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998A-9812-4049-9C77-48C69E5F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58F39-2318-499E-9CF8-9536C2C9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551AF-9C92-4F81-8525-8187FA50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B4D87A-657A-49B3-930A-5304F289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8CAB6B-D003-408A-996F-1CA8751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55E21-D757-44E7-BEB3-73A4CE4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BD5F31-B84F-4ACA-8185-394B4088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8DCEA-37B2-4C67-9477-2EA72952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A63EE-D493-4C76-AAB1-34935B90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274E37-4587-4F43-805D-F193F23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C875C-13AD-4E26-AC16-5BF8D34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FD0F-1350-48FA-8524-67D9C428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3741D-C02B-4FFB-94E2-A4FCD463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D6583-5300-4C0E-B910-D3FA681F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5EAE88-93A9-463B-9931-8695D27F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920F-3E65-40FE-A0B5-DF19D750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F0B5-22D6-4BAF-89D5-63DD9C07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1E30-FFF0-4974-90C4-055543C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58CB-A650-4501-9F29-CB5FD6DC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2F5-D225-461F-9648-1202233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89A1-18FE-444E-9B9D-CA651379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12F7-1BC3-4C11-A984-0A67EC31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700E-DB86-486D-B32B-D4E6807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BA357-F868-441C-9031-50EE4CF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A6DD-27AC-44F9-825B-7EEE25D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2A00-66D4-49D3-96FB-53AD35F1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3E3D-9E97-4994-AD35-DCC82046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2A69-E3C4-4229-88AF-389A0B8E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DA0DA-D6F9-4816-A3AC-B1B2EF3F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6AE3-B259-41B8-985F-6E70D3AF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AD7-A29C-4F59-AE46-9F0F1F40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1E6E-DFC0-400D-AAF9-122F3CA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28EC-8376-46C4-91D7-78EA1458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C9E8-E254-4795-AC09-D3841DAF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1FD7-5C3A-46C8-9305-9E3CE9C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F820-2F4B-4079-8C09-A7B9ADC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36A7-7F67-4EA2-A7A8-1CC1510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656A-0214-45F2-AB79-05D4784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965E-4232-4C7A-A3E8-5E4BCB18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AD52-B28F-4728-8D6F-C2A6B271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D35F-1286-4827-AA6D-5BC13AEA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6BD-167C-4400-ACF3-E86E73FB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3EA0-9A72-45D4-A57E-ED0796BB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B4B9-E8BA-4C46-867B-C4A48E6B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EB8E-2BCD-4B85-A927-FEF94874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A583-C6F9-47E8-8765-D49F405A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8145-A0C8-4D40-BC2E-839453F7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39EB-9ACE-4C08-980A-E0EECFA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9805-BF1C-49C7-81F1-D5A76E7C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238AD-9F07-47C6-9118-7C9C9EE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7253A-17CC-4A8D-9AD5-8990E1B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A81A-5D29-468E-B45A-460B01A4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E75-5B11-49BE-B287-0B73629F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5BB86-FE7A-4743-ADF9-4E82AE0C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EAF4-D9EF-4FE3-A4FD-DA5034D8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8D59-0E15-4F3B-A7E8-0C619A8B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5B54D-AD0A-4DD4-9E41-E21AA854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65786-1A40-4E3C-8004-75C51245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48DB2-E360-473D-8BFD-5983A2FD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F3403-95D1-4939-9963-D51B4C02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C2BE-0FEB-4F2B-9A52-0239CF8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EB78-17AF-42C0-8979-E722765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DF07E-2ECC-4D44-94F2-7BECEE3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AB0-4183-4D0F-8189-BF2C79A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AEB95-E1DC-45CD-B677-721BF213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175CA-25E9-41BE-B551-D3147E7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671D-9858-49BF-B2BE-E6EFDB82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0D679-1CA7-46A0-BBE5-F2CBF9A9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8513-5382-4249-A18F-A7D4FCDB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E0EBC-C63A-4D88-A09E-90C18DB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EC0B-0536-47C1-A3F6-70BB88C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8E53-4BB1-4FAC-9CD5-5FC8BA38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DBBE-B12E-4389-AA76-05F8A65A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8FFA5-9A0A-4743-A148-8DA158A2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0E6-B3C6-4389-B6DE-4D748E8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FA76-D531-4C69-8334-435C8F4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C018-CBC6-48EF-B361-128D7598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5E718-95DE-4A5C-9BF0-07554E7C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7F95-0227-494B-A9A3-2632197A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4CCDC-30E7-4720-8662-9C34EE69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AB05-4C9B-4159-9960-8E0DA1A3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78D8B-ACA9-4AB7-9E35-637A0678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4BC5B-C045-451F-8C49-7F7FBFF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C06D3-C53C-44F2-826E-CD61D33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A15CE-7C7D-4632-A8B9-6DE06872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A98-6A82-47EF-B835-3905675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C23C1-74E9-44F0-88EE-0E9B9373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5E215-DBAB-473A-8F50-CA93D8B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EA07F-E818-43D2-B15F-99066B8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C71A0-56CA-47A9-BF66-1D6ABB5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2E9C-9245-4F2C-884F-F9E083A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3883-F102-41CC-A3BE-C1565CF1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6242B-1820-4EA5-B2DF-ECD9704D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E5E7D-19BE-45F9-B5FF-529BAE9E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11CE1-FBFB-451E-B7C5-787CC6DF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C0CC8-E20B-4D6B-9B77-F7D5B3D4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0D1E-E04A-41DA-9A04-7D8C5B973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068E-CF5D-4BC3-9279-E6677087E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D964-199E-4278-ABB0-178D3DC02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B4E-C19A-47B4-AFDB-B98DC2B25A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D30A-664F-478B-9093-F3BB334EF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9872-A517-4DD0-A85A-D7EA3EB08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C38-A677-4C84-9BEB-49E769587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1135-3D74-479E-AFEB-D6AFC5187C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388-8776-492D-A7A1-185AA4458A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E9F-79AE-4A53-B55B-DD67F69A33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0BA8-2481-48C9-9071-2285943B61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980F-B8F0-4BAA-9153-747313D66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B749-2076-409D-B349-8F9143578D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1F8-3F9D-4B11-8231-B1878D07E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FCB3-D97C-4AC6-9228-A99BA040FE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9008-E38A-4DC5-B85B-143F2F60C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1C8-65AD-461E-A55B-377919679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3D34-CF4C-475D-8CA0-52CF64289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70D1-71BB-4AF6-8B72-ABD1B8950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ECD-020C-49FC-80F7-B327922CFA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695A-8654-4323-ACEB-708407B026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AFED-E7E4-46AC-B502-071B81C5EE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2CDF-4307-47AB-99AB-CFC383A9F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631E-FA57-4297-9A54-DD86CD6BA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989-B419-4DB4-AA20-FDA64201C3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B96A-8CB5-4CB8-8B7C-E02C636D5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F6A-DD15-428A-84D9-5CC584E405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F8C-F1B4-459F-A45F-C106CFA2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C0C3-A434-4393-A590-E6DF95C19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9E7B-362E-47C8-A383-0A0CCBFF5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85B-99C0-478C-9EED-0CE53D1DC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D7E-05CD-4956-A822-7730ADE74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4AA5-0413-459C-A4EE-E550DA45C0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D66-1D8F-4AD8-A2AB-23D617675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1D12-A515-4BCE-99B1-96E7F869F1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5F1B-31D9-483F-A611-482B085C9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C74-6EF3-44F7-9559-C8B6B32DB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4CCA-DA79-40D4-99BB-B4BB77A3B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EC8C-03CB-4C48-8200-F602780630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2806-DB4C-4F23-AB9D-2BC29ED2C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47800" y="1989000"/>
            <a:ext cx="7448400" cy="9144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762200" y="3645000"/>
            <a:ext cx="56196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1023840" y="1986120"/>
            <a:ext cx="7096320" cy="2885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309708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5796000" y="270828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2843280" y="414972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4932360" y="4149720"/>
            <a:ext cx="1008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200160" y="209520"/>
            <a:ext cx="87436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623880" y="1619280"/>
            <a:ext cx="7894800" cy="36194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971640" y="3213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900000" y="4624560"/>
            <a:ext cx="57636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557280" y="1190520"/>
            <a:ext cx="8028000" cy="4476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54764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94036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547640" y="2997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867280" y="30258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743040" y="2505240"/>
            <a:ext cx="765792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243000" y="752400"/>
            <a:ext cx="8656560" cy="5353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25892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800280" y="1204920"/>
            <a:ext cx="7543800" cy="4448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743040" y="2300400"/>
            <a:ext cx="7657920" cy="22572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1071720" y="1100160"/>
            <a:ext cx="7000560" cy="46576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2124000" y="450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2124000" y="522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1623960" y="1371600"/>
            <a:ext cx="589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272880" y="995400"/>
            <a:ext cx="8599680" cy="5046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3851280" y="2651040"/>
            <a:ext cx="324180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1692360" y="4076640"/>
            <a:ext cx="295092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7020000" y="407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1692360" y="5530680"/>
            <a:ext cx="28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7"/>
          <a:stretch/>
        </p:blipFill>
        <p:spPr>
          <a:xfrm>
            <a:off x="5508720" y="55450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24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